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33A2-8778-40A3-AAD4-482897B7D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BBDA-8FDC-4DED-80FB-FDB315868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6157-8DEE-4ED0-B572-5EFC13CC8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9674-8C29-41A5-A378-C2FD7EA9B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ADBE8-56B8-457A-AF46-289E58030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5FC3B-A8F8-4190-81D2-6D644DFDD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B3446-702C-41A7-B510-044408C1A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C96BE-C619-40D2-A614-09C48D587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06C62-64F2-49B8-83B1-CD2F5B38A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6E971-2A93-409F-8345-4CE3A93D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5A2B4-8F0C-4173-ABB7-6F605F75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FE4E-3735-4316-92D3-74214A397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47D44-D27E-4B95-A11B-9BA04753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E90F9-F15F-4EE7-8138-B1CE1921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0E79E-217B-466A-87F1-27D001196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27D35-C9CF-401B-A5BF-761ABE8B1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02951-73AA-4109-AC98-280503731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0C76-1B14-445A-BC3C-1254D5037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B4D9-310C-40EF-8970-0BCD85946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476E-AF9C-497B-AEF1-753CB1A4C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8284-9EBC-4C11-98BA-7D3A4CFCA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743F-9199-40A0-AC73-62A27C4F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105C-C71B-4F08-ACF7-2C91ADAB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0D1C-698B-46BF-AFC0-2F2D0E26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52EF7-654C-453A-B772-CA2DAB1D5D31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A36B9-90E1-4A9A-997E-308AACF69C0F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920" y="1357200"/>
            <a:ext cx="7772400" cy="17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1600" spc="-1" strike="noStrike">
                <a:solidFill>
                  <a:srgbClr val="351a00"/>
                </a:solidFill>
                <a:latin typeface="Times New Roman"/>
              </a:rPr>
              <a:t>МКОУ «Курочкинская ООШ» Тальменского района Алтайского края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i="1" lang="ru-RU" sz="2400" spc="-1" strike="noStrike">
                <a:solidFill>
                  <a:srgbClr val="7030a0"/>
                </a:solidFill>
                <a:latin typeface="Times New Roman"/>
              </a:rPr>
              <a:t>ПОНЯТИЕ О ПРИЧАСТНОМ ОБОРОТЕ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351a00"/>
                </a:solidFill>
                <a:latin typeface="Times New Roman"/>
              </a:rPr>
              <a:t>урок русского языка, 7 класс,</a:t>
            </a:r>
            <a:br>
              <a:rPr sz="2400"/>
            </a:br>
            <a:r>
              <a:rPr b="1" i="1" lang="ru-RU" sz="2400" spc="-1" strike="noStrike">
                <a:solidFill>
                  <a:srgbClr val="351a00"/>
                </a:solidFill>
                <a:latin typeface="Times New Roman"/>
              </a:rPr>
              <a:t>УМК Т.А. Ладыженской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351a00"/>
                </a:solidFill>
                <a:latin typeface="Times New Roman"/>
              </a:rPr>
              <a:t>Автор: Вааль Юлия Анатольевна,</a:t>
            </a:r>
            <a:br>
              <a:rPr sz="2400"/>
            </a:br>
            <a:r>
              <a:rPr b="1" i="1" lang="ru-RU" sz="2400" spc="-1" strike="noStrike">
                <a:solidFill>
                  <a:srgbClr val="351a00"/>
                </a:solidFill>
                <a:latin typeface="Times New Roman"/>
              </a:rPr>
              <a:t>учитель русского языка и литературы</a:t>
            </a:r>
            <a:endParaRPr b="0" lang="en-US" sz="2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4"/>
          <p:cNvSpPr/>
          <p:nvPr/>
        </p:nvSpPr>
        <p:spPr>
          <a:xfrm>
            <a:off x="2571840" y="42876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1143000" y="71424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Прич. + сущ.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3" name="Прямая соединительная линия 10"/>
          <p:cNvSpPr/>
          <p:nvPr/>
        </p:nvSpPr>
        <p:spPr>
          <a:xfrm flipH="1" flipV="1">
            <a:off x="1856880" y="642960"/>
            <a:ext cx="1000440" cy="144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cxnSp>
        <p:nvCxnSpPr>
          <p:cNvPr id="114" name="Прямая со стрелкой 12"/>
          <p:cNvCxnSpPr/>
          <p:nvPr/>
        </p:nvCxnSpPr>
        <p:spPr>
          <a:xfrm flipH="1">
            <a:off x="1856520" y="642960"/>
            <a:ext cx="2520" cy="286560"/>
          </a:xfrm>
          <a:prstGeom prst="straightConnector1">
            <a:avLst/>
          </a:prstGeom>
          <a:ln w="1908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15" name="TextBox 15"/>
          <p:cNvSpPr/>
          <p:nvPr/>
        </p:nvSpPr>
        <p:spPr>
          <a:xfrm>
            <a:off x="4500720" y="642960"/>
            <a:ext cx="37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           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Прич. + сущ.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6" name="TextBox 16"/>
          <p:cNvSpPr/>
          <p:nvPr/>
        </p:nvSpPr>
        <p:spPr>
          <a:xfrm>
            <a:off x="6000840" y="5000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7" name="Прямая соединительная линия 18"/>
          <p:cNvSpPr/>
          <p:nvPr/>
        </p:nvSpPr>
        <p:spPr>
          <a:xfrm flipV="1">
            <a:off x="6143760" y="571680"/>
            <a:ext cx="1214280" cy="144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cxnSp>
        <p:nvCxnSpPr>
          <p:cNvPr id="118" name="Прямая со стрелкой 20"/>
          <p:cNvCxnSpPr/>
          <p:nvPr/>
        </p:nvCxnSpPr>
        <p:spPr>
          <a:xfrm flipH="1">
            <a:off x="7357680" y="571320"/>
            <a:ext cx="2160" cy="286200"/>
          </a:xfrm>
          <a:prstGeom prst="straightConnector1">
            <a:avLst/>
          </a:prstGeom>
          <a:ln w="1908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19" name="TextBox 24"/>
          <p:cNvSpPr/>
          <p:nvPr/>
        </p:nvSpPr>
        <p:spPr>
          <a:xfrm>
            <a:off x="1143000" y="1643040"/>
            <a:ext cx="3143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Белеющий платок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Горящие поленья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0" name="TextBox 26"/>
          <p:cNvSpPr/>
          <p:nvPr/>
        </p:nvSpPr>
        <p:spPr>
          <a:xfrm>
            <a:off x="3571920" y="18572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1" name="TextBox 27"/>
          <p:cNvSpPr/>
          <p:nvPr/>
        </p:nvSpPr>
        <p:spPr>
          <a:xfrm>
            <a:off x="3214800" y="321480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2" name="Прямая соединительная линия 29"/>
          <p:cNvSpPr/>
          <p:nvPr/>
        </p:nvSpPr>
        <p:spPr>
          <a:xfrm flipH="1" flipV="1">
            <a:off x="2285640" y="1999800"/>
            <a:ext cx="1392120" cy="180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cxnSp>
        <p:nvCxnSpPr>
          <p:cNvPr id="123" name="Прямая со стрелкой 31"/>
          <p:cNvCxnSpPr/>
          <p:nvPr/>
        </p:nvCxnSpPr>
        <p:spPr>
          <a:xfrm flipH="1">
            <a:off x="2285640" y="2000160"/>
            <a:ext cx="2160" cy="286560"/>
          </a:xfrm>
          <a:prstGeom prst="straightConnector1">
            <a:avLst/>
          </a:prstGeom>
          <a:ln w="1908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24" name="Прямая соединительная линия 33"/>
          <p:cNvSpPr/>
          <p:nvPr/>
        </p:nvSpPr>
        <p:spPr>
          <a:xfrm flipH="1" flipV="1">
            <a:off x="1785600" y="3212640"/>
            <a:ext cx="1608120" cy="180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cxnSp>
        <p:nvCxnSpPr>
          <p:cNvPr id="125" name="Прямая со стрелкой 35"/>
          <p:cNvCxnSpPr/>
          <p:nvPr/>
        </p:nvCxnSpPr>
        <p:spPr>
          <a:xfrm flipH="1">
            <a:off x="1785600" y="3214440"/>
            <a:ext cx="2160" cy="286200"/>
          </a:xfrm>
          <a:prstGeom prst="straightConnector1">
            <a:avLst/>
          </a:prstGeom>
          <a:ln w="1908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26" name="TextBox 36"/>
          <p:cNvSpPr/>
          <p:nvPr/>
        </p:nvSpPr>
        <p:spPr>
          <a:xfrm>
            <a:off x="2357280" y="1643040"/>
            <a:ext cx="10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50"/>
                </a:solidFill>
                <a:latin typeface="Times New Roman"/>
              </a:rPr>
              <a:t>Какой?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7" name="TextBox 37"/>
          <p:cNvSpPr/>
          <p:nvPr/>
        </p:nvSpPr>
        <p:spPr>
          <a:xfrm>
            <a:off x="2214720" y="285768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50"/>
                </a:solidFill>
                <a:latin typeface="Times New Roman"/>
              </a:rPr>
              <a:t>Какие?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8" name="TextBox 40"/>
          <p:cNvSpPr/>
          <p:nvPr/>
        </p:nvSpPr>
        <p:spPr>
          <a:xfrm>
            <a:off x="4429080" y="2143080"/>
            <a:ext cx="43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Дом, строящийся быстро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9" name="Прямая соединительная линия 42"/>
          <p:cNvSpPr/>
          <p:nvPr/>
        </p:nvSpPr>
        <p:spPr>
          <a:xfrm flipV="1">
            <a:off x="4928400" y="2000160"/>
            <a:ext cx="1800" cy="35712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30" name="Прямая соединительная линия 44"/>
          <p:cNvSpPr/>
          <p:nvPr/>
        </p:nvSpPr>
        <p:spPr>
          <a:xfrm>
            <a:off x="4929120" y="2000160"/>
            <a:ext cx="2214720" cy="180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cxnSp>
        <p:nvCxnSpPr>
          <p:cNvPr id="131" name="Прямая со стрелкой 46"/>
          <p:cNvCxnSpPr/>
          <p:nvPr/>
        </p:nvCxnSpPr>
        <p:spPr>
          <a:xfrm flipH="1">
            <a:off x="7143480" y="2000160"/>
            <a:ext cx="2160" cy="357840"/>
          </a:xfrm>
          <a:prstGeom prst="straightConnector1">
            <a:avLst/>
          </a:prstGeom>
          <a:ln w="1908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32" name="TextBox 49"/>
          <p:cNvSpPr/>
          <p:nvPr/>
        </p:nvSpPr>
        <p:spPr>
          <a:xfrm>
            <a:off x="5429160" y="15717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Какой?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33" name="Прямая соединительная линия 51"/>
          <p:cNvSpPr/>
          <p:nvPr/>
        </p:nvSpPr>
        <p:spPr>
          <a:xfrm flipH="1">
            <a:off x="5285880" y="2143080"/>
            <a:ext cx="1800" cy="50004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34" name="Прямая соединительная линия 53"/>
          <p:cNvSpPr/>
          <p:nvPr/>
        </p:nvSpPr>
        <p:spPr>
          <a:xfrm flipH="1">
            <a:off x="8714880" y="2143080"/>
            <a:ext cx="1800" cy="50004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35" name="Полилиния 54"/>
          <p:cNvSpPr/>
          <p:nvPr/>
        </p:nvSpPr>
        <p:spPr>
          <a:xfrm flipV="1">
            <a:off x="5345280" y="2642040"/>
            <a:ext cx="3213000" cy="142920"/>
          </a:xfrm>
          <a:custGeom>
            <a:avLst/>
            <a:gdLst>
              <a:gd name="textAreaLeft" fmla="*/ 0 w 3213000"/>
              <a:gd name="textAreaRight" fmla="*/ 3213360 w 3213000"/>
              <a:gd name="textAreaTop" fmla="*/ -360 h 142920"/>
              <a:gd name="textAreaBottom" fmla="*/ 142920 h 142920"/>
            </a:gdLst>
            <a:ahLst/>
            <a:rect l="textAreaLeft" t="textAreaTop" r="textAreaRight" b="textAreaBottom"/>
            <a:pathLst>
              <a:path w="3213696" h="78495">
                <a:moveTo>
                  <a:pt x="0" y="32658"/>
                </a:moveTo>
                <a:cubicBezTo>
                  <a:pt x="54113" y="14620"/>
                  <a:pt x="37325" y="14997"/>
                  <a:pt x="119743" y="32658"/>
                </a:cubicBezTo>
                <a:cubicBezTo>
                  <a:pt x="142183" y="37466"/>
                  <a:pt x="185057" y="54429"/>
                  <a:pt x="185057" y="54429"/>
                </a:cubicBezTo>
                <a:cubicBezTo>
                  <a:pt x="214086" y="50800"/>
                  <a:pt x="245410" y="55424"/>
                  <a:pt x="272143" y="43543"/>
                </a:cubicBezTo>
                <a:cubicBezTo>
                  <a:pt x="282628" y="38883"/>
                  <a:pt x="274914" y="19000"/>
                  <a:pt x="283028" y="10886"/>
                </a:cubicBezTo>
                <a:cubicBezTo>
                  <a:pt x="291142" y="2772"/>
                  <a:pt x="304799" y="3629"/>
                  <a:pt x="315685" y="0"/>
                </a:cubicBezTo>
                <a:cubicBezTo>
                  <a:pt x="359228" y="3629"/>
                  <a:pt x="402957" y="5466"/>
                  <a:pt x="446314" y="10886"/>
                </a:cubicBezTo>
                <a:cubicBezTo>
                  <a:pt x="461160" y="12742"/>
                  <a:pt x="475279" y="18408"/>
                  <a:pt x="489857" y="21772"/>
                </a:cubicBezTo>
                <a:lnTo>
                  <a:pt x="587828" y="43543"/>
                </a:lnTo>
                <a:cubicBezTo>
                  <a:pt x="595085" y="36286"/>
                  <a:pt x="599337" y="21772"/>
                  <a:pt x="609600" y="21772"/>
                </a:cubicBezTo>
                <a:cubicBezTo>
                  <a:pt x="670146" y="21772"/>
                  <a:pt x="759840" y="40934"/>
                  <a:pt x="827314" y="54429"/>
                </a:cubicBezTo>
                <a:cubicBezTo>
                  <a:pt x="838200" y="61686"/>
                  <a:pt x="846989" y="74577"/>
                  <a:pt x="859971" y="76200"/>
                </a:cubicBezTo>
                <a:cubicBezTo>
                  <a:pt x="878330" y="78495"/>
                  <a:pt x="896338" y="69329"/>
                  <a:pt x="914400" y="65315"/>
                </a:cubicBezTo>
                <a:cubicBezTo>
                  <a:pt x="1006800" y="44782"/>
                  <a:pt x="902033" y="62416"/>
                  <a:pt x="1034143" y="43543"/>
                </a:cubicBezTo>
                <a:cubicBezTo>
                  <a:pt x="1045029" y="36286"/>
                  <a:pt x="1053782" y="23074"/>
                  <a:pt x="1066800" y="21772"/>
                </a:cubicBezTo>
                <a:cubicBezTo>
                  <a:pt x="1139556" y="14497"/>
                  <a:pt x="1132389" y="34121"/>
                  <a:pt x="1186543" y="54429"/>
                </a:cubicBezTo>
                <a:cubicBezTo>
                  <a:pt x="1200551" y="59682"/>
                  <a:pt x="1215571" y="61686"/>
                  <a:pt x="1230085" y="65315"/>
                </a:cubicBezTo>
                <a:cubicBezTo>
                  <a:pt x="1259114" y="61686"/>
                  <a:pt x="1289150" y="62835"/>
                  <a:pt x="1317171" y="54429"/>
                </a:cubicBezTo>
                <a:cubicBezTo>
                  <a:pt x="1327001" y="51480"/>
                  <a:pt x="1328680" y="32658"/>
                  <a:pt x="1338943" y="32658"/>
                </a:cubicBezTo>
                <a:cubicBezTo>
                  <a:pt x="1426331" y="32658"/>
                  <a:pt x="1513114" y="47172"/>
                  <a:pt x="1600200" y="54429"/>
                </a:cubicBezTo>
                <a:cubicBezTo>
                  <a:pt x="1636486" y="50800"/>
                  <a:pt x="1674786" y="56005"/>
                  <a:pt x="1709057" y="43543"/>
                </a:cubicBezTo>
                <a:cubicBezTo>
                  <a:pt x="1719841" y="39622"/>
                  <a:pt x="1708480" y="11407"/>
                  <a:pt x="1719943" y="10886"/>
                </a:cubicBezTo>
                <a:cubicBezTo>
                  <a:pt x="1796409" y="7411"/>
                  <a:pt x="1872343" y="25401"/>
                  <a:pt x="1948543" y="32658"/>
                </a:cubicBezTo>
                <a:cubicBezTo>
                  <a:pt x="1992086" y="29029"/>
                  <a:pt x="2036447" y="30927"/>
                  <a:pt x="2079171" y="21772"/>
                </a:cubicBezTo>
                <a:cubicBezTo>
                  <a:pt x="2089207" y="19621"/>
                  <a:pt x="2090688" y="410"/>
                  <a:pt x="2100943" y="0"/>
                </a:cubicBezTo>
                <a:lnTo>
                  <a:pt x="2351314" y="10886"/>
                </a:lnTo>
                <a:cubicBezTo>
                  <a:pt x="2385806" y="22384"/>
                  <a:pt x="2386483" y="19427"/>
                  <a:pt x="2416628" y="43543"/>
                </a:cubicBezTo>
                <a:cubicBezTo>
                  <a:pt x="2424642" y="49954"/>
                  <a:pt x="2429599" y="60035"/>
                  <a:pt x="2438400" y="65315"/>
                </a:cubicBezTo>
                <a:cubicBezTo>
                  <a:pt x="2448239" y="71218"/>
                  <a:pt x="2460171" y="72572"/>
                  <a:pt x="2471057" y="76200"/>
                </a:cubicBezTo>
                <a:cubicBezTo>
                  <a:pt x="2529114" y="72572"/>
                  <a:pt x="2587297" y="70581"/>
                  <a:pt x="2645228" y="65315"/>
                </a:cubicBezTo>
                <a:cubicBezTo>
                  <a:pt x="2667209" y="63317"/>
                  <a:pt x="2691379" y="65380"/>
                  <a:pt x="2710543" y="54429"/>
                </a:cubicBezTo>
                <a:cubicBezTo>
                  <a:pt x="2720506" y="48736"/>
                  <a:pt x="2715525" y="31611"/>
                  <a:pt x="2721428" y="21772"/>
                </a:cubicBezTo>
                <a:cubicBezTo>
                  <a:pt x="2726708" y="12971"/>
                  <a:pt x="2735943" y="7257"/>
                  <a:pt x="2743200" y="0"/>
                </a:cubicBezTo>
                <a:cubicBezTo>
                  <a:pt x="2868480" y="41761"/>
                  <a:pt x="2798275" y="21772"/>
                  <a:pt x="3080657" y="21772"/>
                </a:cubicBezTo>
                <a:cubicBezTo>
                  <a:pt x="3206017" y="21772"/>
                  <a:pt x="3213696" y="35068"/>
                  <a:pt x="3178628" y="0"/>
                </a:cubicBezTo>
              </a:path>
            </a:pathLst>
          </a:custGeom>
          <a:noFill/>
          <a:ln w="1908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36" name="TextBox 55"/>
          <p:cNvSpPr/>
          <p:nvPr/>
        </p:nvSpPr>
        <p:spPr>
          <a:xfrm>
            <a:off x="4429080" y="3643200"/>
            <a:ext cx="43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Строящийся  быстро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37" name="Прямая соединительная линия 57"/>
          <p:cNvSpPr/>
          <p:nvPr/>
        </p:nvSpPr>
        <p:spPr>
          <a:xfrm flipV="1">
            <a:off x="5571360" y="3499920"/>
            <a:ext cx="214200" cy="35748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38" name="Прямая соединительная линия 59"/>
          <p:cNvSpPr/>
          <p:nvPr/>
        </p:nvSpPr>
        <p:spPr>
          <a:xfrm>
            <a:off x="5786280" y="3500280"/>
            <a:ext cx="214560" cy="35748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39" name="Прямая соединительная линия 66"/>
          <p:cNvSpPr/>
          <p:nvPr/>
        </p:nvSpPr>
        <p:spPr>
          <a:xfrm flipV="1">
            <a:off x="6357960" y="3357360"/>
            <a:ext cx="1440" cy="28548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0" name="Прямая соединительная линия 68"/>
          <p:cNvSpPr/>
          <p:nvPr/>
        </p:nvSpPr>
        <p:spPr>
          <a:xfrm>
            <a:off x="6357960" y="3357720"/>
            <a:ext cx="1428840" cy="144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cxnSp>
        <p:nvCxnSpPr>
          <p:cNvPr id="141" name="Прямая со стрелкой 70"/>
          <p:cNvCxnSpPr/>
          <p:nvPr/>
        </p:nvCxnSpPr>
        <p:spPr>
          <a:xfrm flipH="1">
            <a:off x="7786440" y="3357720"/>
            <a:ext cx="2160" cy="358920"/>
          </a:xfrm>
          <a:prstGeom prst="straightConnector1">
            <a:avLst/>
          </a:prstGeom>
          <a:ln w="1908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42" name="TextBox 72"/>
          <p:cNvSpPr/>
          <p:nvPr/>
        </p:nvSpPr>
        <p:spPr>
          <a:xfrm>
            <a:off x="6715080" y="307188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50"/>
                </a:solidFill>
                <a:latin typeface="Times New Roman"/>
              </a:rPr>
              <a:t>Как?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3" name="Прямая соединительная линия 74"/>
          <p:cNvSpPr/>
          <p:nvPr/>
        </p:nvSpPr>
        <p:spPr>
          <a:xfrm flipH="1">
            <a:off x="4355640" y="1428840"/>
            <a:ext cx="1800" cy="493056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2"/>
          <p:cNvSpPr/>
          <p:nvPr/>
        </p:nvSpPr>
        <p:spPr>
          <a:xfrm>
            <a:off x="2428920" y="785880"/>
            <a:ext cx="528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ЗАПОМНИТЕ!!!</a:t>
            </a:r>
            <a:endParaRPr b="0" lang="en-US" sz="4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5" name="TextBox 3"/>
          <p:cNvSpPr/>
          <p:nvPr/>
        </p:nvSpPr>
        <p:spPr>
          <a:xfrm>
            <a:off x="1214280" y="1785960"/>
            <a:ext cx="4714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Причастный оборот </a:t>
            </a:r>
            <a:r>
              <a:rPr b="1" i="1" lang="ru-RU" sz="3200" spc="-1" strike="noStrike">
                <a:solidFill>
                  <a:srgbClr val="7030a0"/>
                </a:solidFill>
                <a:latin typeface="Times New Roman"/>
              </a:rPr>
              <a:t>– это причастие с зависимыми словами: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6" name="TextBox 4"/>
          <p:cNvSpPr/>
          <p:nvPr/>
        </p:nvSpPr>
        <p:spPr>
          <a:xfrm>
            <a:off x="1071720" y="3929040"/>
            <a:ext cx="621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Проверенное  учителем  </a:t>
            </a: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упражнение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7" name="Прямая соединительная линия 7"/>
          <p:cNvSpPr/>
          <p:nvPr/>
        </p:nvSpPr>
        <p:spPr>
          <a:xfrm flipV="1">
            <a:off x="5928480" y="3858840"/>
            <a:ext cx="1800" cy="21420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8" name="Прямая соединительная линия 9"/>
          <p:cNvSpPr/>
          <p:nvPr/>
        </p:nvSpPr>
        <p:spPr>
          <a:xfrm flipH="1" flipV="1">
            <a:off x="2643120" y="3857760"/>
            <a:ext cx="3286080" cy="144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cxnSp>
        <p:nvCxnSpPr>
          <p:cNvPr id="149" name="Прямая со стрелкой 11"/>
          <p:cNvCxnSpPr/>
          <p:nvPr/>
        </p:nvCxnSpPr>
        <p:spPr>
          <a:xfrm flipH="1">
            <a:off x="2641320" y="3858840"/>
            <a:ext cx="2160" cy="21492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50" name="TextBox 13"/>
          <p:cNvSpPr/>
          <p:nvPr/>
        </p:nvSpPr>
        <p:spPr>
          <a:xfrm>
            <a:off x="3857760" y="342900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50"/>
                </a:solidFill>
                <a:latin typeface="Times New Roman"/>
              </a:rPr>
              <a:t>Какое?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1" name="Прямая соединительная линия 15"/>
          <p:cNvSpPr/>
          <p:nvPr/>
        </p:nvSpPr>
        <p:spPr>
          <a:xfrm>
            <a:off x="1071720" y="3787920"/>
            <a:ext cx="0" cy="85536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2" name="Прямая соединительная линия 21"/>
          <p:cNvSpPr/>
          <p:nvPr/>
        </p:nvSpPr>
        <p:spPr>
          <a:xfrm flipH="1">
            <a:off x="5000760" y="3787920"/>
            <a:ext cx="1440" cy="78408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3" name="Полилиния 26"/>
          <p:cNvSpPr/>
          <p:nvPr/>
        </p:nvSpPr>
        <p:spPr>
          <a:xfrm>
            <a:off x="1185840" y="4433760"/>
            <a:ext cx="3648240" cy="192240"/>
          </a:xfrm>
          <a:custGeom>
            <a:avLst/>
            <a:gdLst>
              <a:gd name="textAreaLeft" fmla="*/ 0 w 3648240"/>
              <a:gd name="textAreaRight" fmla="*/ 3648600 w 36482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3646714" h="192185">
                <a:moveTo>
                  <a:pt x="0" y="115985"/>
                </a:moveTo>
                <a:lnTo>
                  <a:pt x="130628" y="72442"/>
                </a:lnTo>
                <a:lnTo>
                  <a:pt x="163286" y="61556"/>
                </a:lnTo>
                <a:cubicBezTo>
                  <a:pt x="174172" y="72442"/>
                  <a:pt x="187404" y="81404"/>
                  <a:pt x="195943" y="94213"/>
                </a:cubicBezTo>
                <a:cubicBezTo>
                  <a:pt x="202308" y="103760"/>
                  <a:pt x="198013" y="119524"/>
                  <a:pt x="206828" y="126870"/>
                </a:cubicBezTo>
                <a:cubicBezTo>
                  <a:pt x="221839" y="139380"/>
                  <a:pt x="243114" y="141385"/>
                  <a:pt x="261257" y="148642"/>
                </a:cubicBezTo>
                <a:cubicBezTo>
                  <a:pt x="326571" y="145013"/>
                  <a:pt x="393188" y="151232"/>
                  <a:pt x="457200" y="137756"/>
                </a:cubicBezTo>
                <a:cubicBezTo>
                  <a:pt x="468428" y="135392"/>
                  <a:pt x="459972" y="113213"/>
                  <a:pt x="468086" y="105099"/>
                </a:cubicBezTo>
                <a:cubicBezTo>
                  <a:pt x="476200" y="96985"/>
                  <a:pt x="489857" y="97842"/>
                  <a:pt x="500743" y="94213"/>
                </a:cubicBezTo>
                <a:cubicBezTo>
                  <a:pt x="563827" y="103225"/>
                  <a:pt x="621362" y="117645"/>
                  <a:pt x="685800" y="94213"/>
                </a:cubicBezTo>
                <a:cubicBezTo>
                  <a:pt x="696584" y="90292"/>
                  <a:pt x="693057" y="72442"/>
                  <a:pt x="696686" y="61556"/>
                </a:cubicBezTo>
                <a:cubicBezTo>
                  <a:pt x="743857" y="65185"/>
                  <a:pt x="795884" y="51284"/>
                  <a:pt x="838200" y="72442"/>
                </a:cubicBezTo>
                <a:cubicBezTo>
                  <a:pt x="857941" y="82313"/>
                  <a:pt x="832130" y="123626"/>
                  <a:pt x="849086" y="137756"/>
                </a:cubicBezTo>
                <a:cubicBezTo>
                  <a:pt x="863300" y="149601"/>
                  <a:pt x="885095" y="128624"/>
                  <a:pt x="903514" y="126870"/>
                </a:cubicBezTo>
                <a:cubicBezTo>
                  <a:pt x="961423" y="121355"/>
                  <a:pt x="1019629" y="119613"/>
                  <a:pt x="1077686" y="115985"/>
                </a:cubicBezTo>
                <a:cubicBezTo>
                  <a:pt x="1081314" y="105099"/>
                  <a:pt x="1077439" y="86110"/>
                  <a:pt x="1088571" y="83327"/>
                </a:cubicBezTo>
                <a:cubicBezTo>
                  <a:pt x="1127230" y="73662"/>
                  <a:pt x="1120200" y="125842"/>
                  <a:pt x="1132114" y="137756"/>
                </a:cubicBezTo>
                <a:cubicBezTo>
                  <a:pt x="1140228" y="145870"/>
                  <a:pt x="1153885" y="145013"/>
                  <a:pt x="1164771" y="148642"/>
                </a:cubicBezTo>
                <a:cubicBezTo>
                  <a:pt x="1172974" y="147275"/>
                  <a:pt x="1257387" y="134990"/>
                  <a:pt x="1273628" y="126870"/>
                </a:cubicBezTo>
                <a:cubicBezTo>
                  <a:pt x="1282808" y="122280"/>
                  <a:pt x="1288143" y="112356"/>
                  <a:pt x="1295400" y="105099"/>
                </a:cubicBezTo>
                <a:cubicBezTo>
                  <a:pt x="1313543" y="112356"/>
                  <a:pt x="1330345" y="125371"/>
                  <a:pt x="1349828" y="126870"/>
                </a:cubicBezTo>
                <a:cubicBezTo>
                  <a:pt x="1413697" y="131783"/>
                  <a:pt x="1422733" y="118482"/>
                  <a:pt x="1469571" y="105099"/>
                </a:cubicBezTo>
                <a:cubicBezTo>
                  <a:pt x="1483956" y="100989"/>
                  <a:pt x="1498600" y="97842"/>
                  <a:pt x="1513114" y="94213"/>
                </a:cubicBezTo>
                <a:cubicBezTo>
                  <a:pt x="1534885" y="101470"/>
                  <a:pt x="1557902" y="105722"/>
                  <a:pt x="1578428" y="115985"/>
                </a:cubicBezTo>
                <a:cubicBezTo>
                  <a:pt x="1710219" y="181881"/>
                  <a:pt x="1554752" y="126237"/>
                  <a:pt x="1654628" y="159527"/>
                </a:cubicBezTo>
                <a:cubicBezTo>
                  <a:pt x="1661885" y="148641"/>
                  <a:pt x="1666184" y="135043"/>
                  <a:pt x="1676400" y="126870"/>
                </a:cubicBezTo>
                <a:cubicBezTo>
                  <a:pt x="1685360" y="119702"/>
                  <a:pt x="1697602" y="116659"/>
                  <a:pt x="1709057" y="115985"/>
                </a:cubicBezTo>
                <a:cubicBezTo>
                  <a:pt x="1821407" y="109376"/>
                  <a:pt x="1934028" y="108728"/>
                  <a:pt x="2046514" y="105099"/>
                </a:cubicBezTo>
                <a:cubicBezTo>
                  <a:pt x="2050143" y="90585"/>
                  <a:pt x="2044571" y="69253"/>
                  <a:pt x="2057400" y="61556"/>
                </a:cubicBezTo>
                <a:cubicBezTo>
                  <a:pt x="2070229" y="53859"/>
                  <a:pt x="2087953" y="65019"/>
                  <a:pt x="2100943" y="72442"/>
                </a:cubicBezTo>
                <a:cubicBezTo>
                  <a:pt x="2137640" y="93412"/>
                  <a:pt x="2127667" y="122629"/>
                  <a:pt x="2177143" y="126870"/>
                </a:cubicBezTo>
                <a:cubicBezTo>
                  <a:pt x="2289276" y="136481"/>
                  <a:pt x="2402114" y="134127"/>
                  <a:pt x="2514600" y="137756"/>
                </a:cubicBezTo>
                <a:cubicBezTo>
                  <a:pt x="2518229" y="123242"/>
                  <a:pt x="2511595" y="99769"/>
                  <a:pt x="2525486" y="94213"/>
                </a:cubicBezTo>
                <a:cubicBezTo>
                  <a:pt x="2540553" y="88186"/>
                  <a:pt x="2554939" y="107934"/>
                  <a:pt x="2569028" y="115985"/>
                </a:cubicBezTo>
                <a:cubicBezTo>
                  <a:pt x="2594696" y="130652"/>
                  <a:pt x="2621847" y="153712"/>
                  <a:pt x="2645228" y="170413"/>
                </a:cubicBezTo>
                <a:cubicBezTo>
                  <a:pt x="2655874" y="178018"/>
                  <a:pt x="2667000" y="184928"/>
                  <a:pt x="2677886" y="192185"/>
                </a:cubicBezTo>
                <a:cubicBezTo>
                  <a:pt x="2703286" y="90585"/>
                  <a:pt x="2670628" y="112356"/>
                  <a:pt x="2743200" y="94213"/>
                </a:cubicBezTo>
                <a:cubicBezTo>
                  <a:pt x="2757714" y="101470"/>
                  <a:pt x="2770563" y="114740"/>
                  <a:pt x="2786743" y="115985"/>
                </a:cubicBezTo>
                <a:cubicBezTo>
                  <a:pt x="2845988" y="120542"/>
                  <a:pt x="2871049" y="109654"/>
                  <a:pt x="2917371" y="94213"/>
                </a:cubicBezTo>
                <a:cubicBezTo>
                  <a:pt x="2931885" y="101470"/>
                  <a:pt x="2945847" y="109958"/>
                  <a:pt x="2960914" y="115985"/>
                </a:cubicBezTo>
                <a:cubicBezTo>
                  <a:pt x="2982222" y="124508"/>
                  <a:pt x="3007869" y="123987"/>
                  <a:pt x="3026228" y="137756"/>
                </a:cubicBezTo>
                <a:cubicBezTo>
                  <a:pt x="3039210" y="147493"/>
                  <a:pt x="3040743" y="166785"/>
                  <a:pt x="3048000" y="181299"/>
                </a:cubicBezTo>
                <a:cubicBezTo>
                  <a:pt x="3111577" y="160106"/>
                  <a:pt x="3053189" y="186995"/>
                  <a:pt x="3102428" y="137756"/>
                </a:cubicBezTo>
                <a:cubicBezTo>
                  <a:pt x="3128286" y="111898"/>
                  <a:pt x="3159365" y="92541"/>
                  <a:pt x="3189514" y="72442"/>
                </a:cubicBezTo>
                <a:cubicBezTo>
                  <a:pt x="3204028" y="76070"/>
                  <a:pt x="3218212" y="85183"/>
                  <a:pt x="3233057" y="83327"/>
                </a:cubicBezTo>
                <a:cubicBezTo>
                  <a:pt x="3249159" y="81314"/>
                  <a:pt x="3262511" y="69607"/>
                  <a:pt x="3276600" y="61556"/>
                </a:cubicBezTo>
                <a:cubicBezTo>
                  <a:pt x="3384325" y="0"/>
                  <a:pt x="3221191" y="83819"/>
                  <a:pt x="3352800" y="18013"/>
                </a:cubicBezTo>
                <a:cubicBezTo>
                  <a:pt x="3363686" y="25270"/>
                  <a:pt x="3376206" y="30534"/>
                  <a:pt x="3385457" y="39785"/>
                </a:cubicBezTo>
                <a:cubicBezTo>
                  <a:pt x="3394708" y="49036"/>
                  <a:pt x="3399055" y="62226"/>
                  <a:pt x="3407228" y="72442"/>
                </a:cubicBezTo>
                <a:cubicBezTo>
                  <a:pt x="3469273" y="149997"/>
                  <a:pt x="3383762" y="26356"/>
                  <a:pt x="3450771" y="126870"/>
                </a:cubicBezTo>
                <a:cubicBezTo>
                  <a:pt x="3552727" y="92887"/>
                  <a:pt x="3401933" y="148558"/>
                  <a:pt x="3516086" y="83327"/>
                </a:cubicBezTo>
                <a:cubicBezTo>
                  <a:pt x="3529075" y="75904"/>
                  <a:pt x="3545243" y="76552"/>
                  <a:pt x="3559628" y="72442"/>
                </a:cubicBezTo>
                <a:cubicBezTo>
                  <a:pt x="3570661" y="69290"/>
                  <a:pt x="3581400" y="65185"/>
                  <a:pt x="3592286" y="61556"/>
                </a:cubicBezTo>
                <a:cubicBezTo>
                  <a:pt x="3631694" y="87828"/>
                  <a:pt x="3613241" y="77476"/>
                  <a:pt x="3646714" y="94213"/>
                </a:cubicBezTo>
              </a:path>
            </a:pathLst>
          </a:custGeom>
          <a:noFill/>
          <a:ln w="1908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4" name="Прямая соединительная линия 28"/>
          <p:cNvSpPr/>
          <p:nvPr/>
        </p:nvSpPr>
        <p:spPr>
          <a:xfrm>
            <a:off x="2143080" y="4359240"/>
            <a:ext cx="0" cy="49860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5" name="Прямая соединительная линия 30"/>
          <p:cNvSpPr/>
          <p:nvPr/>
        </p:nvSpPr>
        <p:spPr>
          <a:xfrm>
            <a:off x="2143080" y="4857840"/>
            <a:ext cx="2286000" cy="144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cxnSp>
        <p:nvCxnSpPr>
          <p:cNvPr id="156" name="Прямая со стрелкой 32"/>
          <p:cNvCxnSpPr/>
          <p:nvPr/>
        </p:nvCxnSpPr>
        <p:spPr>
          <a:xfrm flipV="1">
            <a:off x="4427640" y="4430520"/>
            <a:ext cx="2160" cy="42912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57" name="TextBox 34"/>
          <p:cNvSpPr/>
          <p:nvPr/>
        </p:nvSpPr>
        <p:spPr>
          <a:xfrm>
            <a:off x="1785960" y="37861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8" name="TextBox 35"/>
          <p:cNvSpPr/>
          <p:nvPr/>
        </p:nvSpPr>
        <p:spPr>
          <a:xfrm>
            <a:off x="6215040" y="37861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9" name="TextBox 36"/>
          <p:cNvSpPr/>
          <p:nvPr/>
        </p:nvSpPr>
        <p:spPr>
          <a:xfrm>
            <a:off x="1000080" y="5429160"/>
            <a:ext cx="73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Упражнение  ,  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проверенное учителем  ,  …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0" name="TextBox 37"/>
          <p:cNvSpPr/>
          <p:nvPr/>
        </p:nvSpPr>
        <p:spPr>
          <a:xfrm>
            <a:off x="1857240" y="52862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1" name="Прямая соединительная линия 39"/>
          <p:cNvSpPr/>
          <p:nvPr/>
        </p:nvSpPr>
        <p:spPr>
          <a:xfrm flipV="1">
            <a:off x="2426400" y="5285880"/>
            <a:ext cx="1800" cy="28764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2" name="Прямая соединительная линия 44"/>
          <p:cNvSpPr/>
          <p:nvPr/>
        </p:nvSpPr>
        <p:spPr>
          <a:xfrm>
            <a:off x="2428920" y="5286240"/>
            <a:ext cx="3000240" cy="180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cxnSp>
        <p:nvCxnSpPr>
          <p:cNvPr id="163" name="Прямая со стрелкой 46"/>
          <p:cNvCxnSpPr/>
          <p:nvPr/>
        </p:nvCxnSpPr>
        <p:spPr>
          <a:xfrm flipH="1">
            <a:off x="5428440" y="5288040"/>
            <a:ext cx="2520" cy="28656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64" name="Прямая соединительная линия 48"/>
          <p:cNvSpPr/>
          <p:nvPr/>
        </p:nvSpPr>
        <p:spPr>
          <a:xfrm flipH="1">
            <a:off x="3499920" y="5429160"/>
            <a:ext cx="1800" cy="64296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5" name="Прямая соединительная линия 50"/>
          <p:cNvSpPr/>
          <p:nvPr/>
        </p:nvSpPr>
        <p:spPr>
          <a:xfrm flipH="1">
            <a:off x="7358040" y="5429160"/>
            <a:ext cx="1440" cy="57168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6" name="Полилиния 54"/>
          <p:cNvSpPr/>
          <p:nvPr/>
        </p:nvSpPr>
        <p:spPr>
          <a:xfrm>
            <a:off x="3714840" y="6000840"/>
            <a:ext cx="3462120" cy="153720"/>
          </a:xfrm>
          <a:custGeom>
            <a:avLst/>
            <a:gdLst>
              <a:gd name="textAreaLeft" fmla="*/ 0 w 3462120"/>
              <a:gd name="textAreaRight" fmla="*/ 3462480 w 3462120"/>
              <a:gd name="textAreaTop" fmla="*/ 0 h 153720"/>
              <a:gd name="textAreaBottom" fmla="*/ 153720 h 153720"/>
            </a:gdLst>
            <a:ahLst/>
            <a:rect l="textAreaLeft" t="textAreaTop" r="textAreaRight" b="textAreaBottom"/>
            <a:pathLst>
              <a:path w="3461658" h="153466">
                <a:moveTo>
                  <a:pt x="0" y="109923"/>
                </a:moveTo>
                <a:cubicBezTo>
                  <a:pt x="3629" y="99037"/>
                  <a:pt x="623" y="82398"/>
                  <a:pt x="10886" y="77266"/>
                </a:cubicBezTo>
                <a:cubicBezTo>
                  <a:pt x="33835" y="65791"/>
                  <a:pt x="61926" y="71412"/>
                  <a:pt x="87086" y="66380"/>
                </a:cubicBezTo>
                <a:cubicBezTo>
                  <a:pt x="119003" y="59997"/>
                  <a:pt x="132299" y="47003"/>
                  <a:pt x="163286" y="33723"/>
                </a:cubicBezTo>
                <a:cubicBezTo>
                  <a:pt x="173833" y="29203"/>
                  <a:pt x="185057" y="26466"/>
                  <a:pt x="195943" y="22838"/>
                </a:cubicBezTo>
                <a:cubicBezTo>
                  <a:pt x="224069" y="41588"/>
                  <a:pt x="276578" y="74848"/>
                  <a:pt x="304800" y="99038"/>
                </a:cubicBezTo>
                <a:cubicBezTo>
                  <a:pt x="316489" y="109057"/>
                  <a:pt x="324091" y="124057"/>
                  <a:pt x="337458" y="131695"/>
                </a:cubicBezTo>
                <a:cubicBezTo>
                  <a:pt x="350448" y="139117"/>
                  <a:pt x="366486" y="138952"/>
                  <a:pt x="381000" y="142580"/>
                </a:cubicBezTo>
                <a:cubicBezTo>
                  <a:pt x="471714" y="138952"/>
                  <a:pt x="562587" y="138163"/>
                  <a:pt x="653143" y="131695"/>
                </a:cubicBezTo>
                <a:cubicBezTo>
                  <a:pt x="664588" y="130877"/>
                  <a:pt x="674441" y="122432"/>
                  <a:pt x="685800" y="120809"/>
                </a:cubicBezTo>
                <a:cubicBezTo>
                  <a:pt x="725476" y="115141"/>
                  <a:pt x="765629" y="113552"/>
                  <a:pt x="805543" y="109923"/>
                </a:cubicBezTo>
                <a:cubicBezTo>
                  <a:pt x="816429" y="106295"/>
                  <a:pt x="828361" y="104941"/>
                  <a:pt x="838200" y="99038"/>
                </a:cubicBezTo>
                <a:cubicBezTo>
                  <a:pt x="847001" y="93758"/>
                  <a:pt x="849771" y="78399"/>
                  <a:pt x="859972" y="77266"/>
                </a:cubicBezTo>
                <a:cubicBezTo>
                  <a:pt x="885473" y="74433"/>
                  <a:pt x="910772" y="84523"/>
                  <a:pt x="936172" y="88152"/>
                </a:cubicBezTo>
                <a:cubicBezTo>
                  <a:pt x="939801" y="99038"/>
                  <a:pt x="935926" y="118026"/>
                  <a:pt x="947058" y="120809"/>
                </a:cubicBezTo>
                <a:cubicBezTo>
                  <a:pt x="1030097" y="141568"/>
                  <a:pt x="1010156" y="107772"/>
                  <a:pt x="1055915" y="77266"/>
                </a:cubicBezTo>
                <a:cubicBezTo>
                  <a:pt x="1065462" y="70901"/>
                  <a:pt x="1077686" y="70009"/>
                  <a:pt x="1088572" y="66380"/>
                </a:cubicBezTo>
                <a:cubicBezTo>
                  <a:pt x="1106715" y="70009"/>
                  <a:pt x="1125994" y="69978"/>
                  <a:pt x="1143000" y="77266"/>
                </a:cubicBezTo>
                <a:cubicBezTo>
                  <a:pt x="1152434" y="81309"/>
                  <a:pt x="1154708" y="97025"/>
                  <a:pt x="1164772" y="99038"/>
                </a:cubicBezTo>
                <a:cubicBezTo>
                  <a:pt x="1176024" y="101288"/>
                  <a:pt x="1186297" y="90935"/>
                  <a:pt x="1197429" y="88152"/>
                </a:cubicBezTo>
                <a:cubicBezTo>
                  <a:pt x="1215379" y="83664"/>
                  <a:pt x="1233796" y="81280"/>
                  <a:pt x="1251858" y="77266"/>
                </a:cubicBezTo>
                <a:cubicBezTo>
                  <a:pt x="1266462" y="74020"/>
                  <a:pt x="1280886" y="70009"/>
                  <a:pt x="1295400" y="66380"/>
                </a:cubicBezTo>
                <a:cubicBezTo>
                  <a:pt x="1306286" y="70009"/>
                  <a:pt x="1318218" y="71362"/>
                  <a:pt x="1328058" y="77266"/>
                </a:cubicBezTo>
                <a:cubicBezTo>
                  <a:pt x="1348275" y="89396"/>
                  <a:pt x="1357909" y="114582"/>
                  <a:pt x="1371600" y="131695"/>
                </a:cubicBezTo>
                <a:cubicBezTo>
                  <a:pt x="1378011" y="139709"/>
                  <a:pt x="1386115" y="146209"/>
                  <a:pt x="1393372" y="153466"/>
                </a:cubicBezTo>
                <a:cubicBezTo>
                  <a:pt x="1400629" y="142580"/>
                  <a:pt x="1405092" y="129184"/>
                  <a:pt x="1415143" y="120809"/>
                </a:cubicBezTo>
                <a:cubicBezTo>
                  <a:pt x="1427609" y="110420"/>
                  <a:pt x="1442463" y="99434"/>
                  <a:pt x="1458686" y="99038"/>
                </a:cubicBezTo>
                <a:lnTo>
                  <a:pt x="1861458" y="109923"/>
                </a:lnTo>
                <a:cubicBezTo>
                  <a:pt x="1865086" y="120809"/>
                  <a:pt x="1862080" y="137448"/>
                  <a:pt x="1872343" y="142580"/>
                </a:cubicBezTo>
                <a:cubicBezTo>
                  <a:pt x="1893348" y="153083"/>
                  <a:pt x="1932114" y="104582"/>
                  <a:pt x="1937658" y="99038"/>
                </a:cubicBezTo>
                <a:cubicBezTo>
                  <a:pt x="1941286" y="84524"/>
                  <a:pt x="1939197" y="67178"/>
                  <a:pt x="1948543" y="55495"/>
                </a:cubicBezTo>
                <a:cubicBezTo>
                  <a:pt x="1955711" y="46535"/>
                  <a:pt x="1969749" y="45348"/>
                  <a:pt x="1981200" y="44609"/>
                </a:cubicBezTo>
                <a:cubicBezTo>
                  <a:pt x="2082654" y="38063"/>
                  <a:pt x="2184400" y="37352"/>
                  <a:pt x="2286000" y="33723"/>
                </a:cubicBezTo>
                <a:cubicBezTo>
                  <a:pt x="2330327" y="46388"/>
                  <a:pt x="2416071" y="65824"/>
                  <a:pt x="2449286" y="99038"/>
                </a:cubicBezTo>
                <a:lnTo>
                  <a:pt x="2471058" y="120809"/>
                </a:lnTo>
                <a:cubicBezTo>
                  <a:pt x="2485572" y="117180"/>
                  <a:pt x="2499930" y="112857"/>
                  <a:pt x="2514600" y="109923"/>
                </a:cubicBezTo>
                <a:cubicBezTo>
                  <a:pt x="2536243" y="105594"/>
                  <a:pt x="2558774" y="105380"/>
                  <a:pt x="2579915" y="99038"/>
                </a:cubicBezTo>
                <a:cubicBezTo>
                  <a:pt x="2595458" y="94375"/>
                  <a:pt x="2608264" y="82964"/>
                  <a:pt x="2623458" y="77266"/>
                </a:cubicBezTo>
                <a:cubicBezTo>
                  <a:pt x="2637466" y="72013"/>
                  <a:pt x="2652486" y="70009"/>
                  <a:pt x="2667000" y="66380"/>
                </a:cubicBezTo>
                <a:cubicBezTo>
                  <a:pt x="2674257" y="59123"/>
                  <a:pt x="2678708" y="46622"/>
                  <a:pt x="2688772" y="44609"/>
                </a:cubicBezTo>
                <a:cubicBezTo>
                  <a:pt x="2700024" y="42359"/>
                  <a:pt x="2710882" y="50975"/>
                  <a:pt x="2721429" y="55495"/>
                </a:cubicBezTo>
                <a:cubicBezTo>
                  <a:pt x="2801121" y="89649"/>
                  <a:pt x="2728238" y="68082"/>
                  <a:pt x="2808515" y="88152"/>
                </a:cubicBezTo>
                <a:cubicBezTo>
                  <a:pt x="2819401" y="99038"/>
                  <a:pt x="2825823" y="119628"/>
                  <a:pt x="2841172" y="120809"/>
                </a:cubicBezTo>
                <a:cubicBezTo>
                  <a:pt x="2880210" y="123812"/>
                  <a:pt x="2940063" y="102360"/>
                  <a:pt x="2982686" y="88152"/>
                </a:cubicBezTo>
                <a:cubicBezTo>
                  <a:pt x="3045229" y="25609"/>
                  <a:pt x="3012773" y="41836"/>
                  <a:pt x="3069772" y="22838"/>
                </a:cubicBezTo>
                <a:cubicBezTo>
                  <a:pt x="3205765" y="68169"/>
                  <a:pt x="3133461" y="58612"/>
                  <a:pt x="3287486" y="44609"/>
                </a:cubicBezTo>
                <a:cubicBezTo>
                  <a:pt x="3294743" y="37352"/>
                  <a:pt x="3299825" y="26881"/>
                  <a:pt x="3309258" y="22838"/>
                </a:cubicBezTo>
                <a:cubicBezTo>
                  <a:pt x="3362547" y="0"/>
                  <a:pt x="3367947" y="13656"/>
                  <a:pt x="3418115" y="33723"/>
                </a:cubicBezTo>
                <a:cubicBezTo>
                  <a:pt x="3452949" y="80169"/>
                  <a:pt x="3432629" y="77266"/>
                  <a:pt x="3461658" y="77266"/>
                </a:cubicBezTo>
              </a:path>
            </a:pathLst>
          </a:custGeom>
          <a:noFill/>
          <a:ln w="1908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7" name="TextBox 55"/>
          <p:cNvSpPr/>
          <p:nvPr/>
        </p:nvSpPr>
        <p:spPr>
          <a:xfrm>
            <a:off x="2928960" y="371484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П.о.</a:t>
            </a: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8" name="TextBox 56"/>
          <p:cNvSpPr/>
          <p:nvPr/>
        </p:nvSpPr>
        <p:spPr>
          <a:xfrm>
            <a:off x="5572080" y="5214960"/>
            <a:ext cx="7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П.о.</a:t>
            </a: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9" name="Овал 57"/>
          <p:cNvSpPr/>
          <p:nvPr/>
        </p:nvSpPr>
        <p:spPr>
          <a:xfrm>
            <a:off x="3143160" y="5643720"/>
            <a:ext cx="357120" cy="285480"/>
          </a:xfrm>
          <a:prstGeom prst="ellipse">
            <a:avLst/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0" name="Овал 58"/>
          <p:cNvSpPr/>
          <p:nvPr/>
        </p:nvSpPr>
        <p:spPr>
          <a:xfrm>
            <a:off x="7358040" y="5643720"/>
            <a:ext cx="285840" cy="285480"/>
          </a:xfrm>
          <a:prstGeom prst="ellipse">
            <a:avLst/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1" name="TextBox 59"/>
          <p:cNvSpPr/>
          <p:nvPr/>
        </p:nvSpPr>
        <p:spPr>
          <a:xfrm>
            <a:off x="2643120" y="4500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Times New Roman"/>
              </a:rPr>
              <a:t>Кем?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6633"/>
                </a:solidFill>
                <a:latin typeface="Times New Roman"/>
              </a:rPr>
              <a:t>Предупреждение грамматических ошибок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900000" y="1341000"/>
            <a:ext cx="7848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 algn="ctr"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Зависимые слова в причастном обороте </a:t>
            </a: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всегда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должны находиться рядом с причастием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514440" indent="-514440" algn="ctr"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Определяемое слово </a:t>
            </a: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не может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находиться </a:t>
            </a: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внутри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причастного оборота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514440" indent="-514440" algn="ctr"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Причастный оборот находится </a:t>
            </a: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до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или </a:t>
            </a: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после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определяемого слова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514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7724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Times New Roman"/>
              </a:rPr>
              <a:t>Проверь себя!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75" name="Объект 4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3810240" cy="3490920"/>
          </a:xfrm>
          <a:prstGeom prst="rect">
            <a:avLst/>
          </a:prstGeom>
          <a:ln w="0">
            <a:noFill/>
          </a:ln>
        </p:spPr>
      </p:pic>
      <p:pic>
        <p:nvPicPr>
          <p:cNvPr id="176" name="Объект 5" descr=""/>
          <p:cNvPicPr/>
          <p:nvPr/>
        </p:nvPicPr>
        <p:blipFill>
          <a:blip r:embed="rId2"/>
          <a:stretch/>
        </p:blipFill>
        <p:spPr>
          <a:xfrm>
            <a:off x="4716360" y="2997360"/>
            <a:ext cx="419112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Times New Roman"/>
              </a:rPr>
              <a:t>Правильный ответ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78" name="Рисунок 3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4586400" cy="323028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4" descr=""/>
          <p:cNvPicPr/>
          <p:nvPr/>
        </p:nvPicPr>
        <p:blipFill>
          <a:blip r:embed="rId2"/>
          <a:stretch/>
        </p:blipFill>
        <p:spPr>
          <a:xfrm>
            <a:off x="4140360" y="3500280"/>
            <a:ext cx="460836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исок используемых источников</a:t>
            </a:r>
            <a:endParaRPr b="0" lang="en-US" sz="2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826920" y="2233440"/>
            <a:ext cx="5926320" cy="8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32000" y="836640"/>
            <a:ext cx="7200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a08366"/>
                </a:solidFill>
                <a:latin typeface="Times New Roman"/>
              </a:rPr>
              <a:t>УСПЕХ В РАБОТЕ - ЭТО ГОСТЬ, НЕ  ЛЮБЯЩИЙ ПОСЕЩАТЬ ЛЕНИВЫХ</a:t>
            </a:r>
            <a:endParaRPr b="0" lang="en-US" sz="5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900000" y="404640"/>
            <a:ext cx="784872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08366"/>
                </a:solidFill>
                <a:latin typeface="Times New Roman"/>
              </a:rPr>
              <a:t>«Причастия обыкновенно избегаются в разговоре. Мы не говорим: карета, скачущая по мосту; слуга, метущий комнату; мы говорим: которая скачет, который метёт и пр. – заменяя </a:t>
            </a:r>
            <a:r>
              <a:rPr b="1" lang="ru-RU" sz="4000" spc="-1" strike="noStrike">
                <a:solidFill>
                  <a:srgbClr val="a08366"/>
                </a:solidFill>
                <a:latin typeface="Times New Roman"/>
              </a:rPr>
              <a:t>выразительную краткость причастия </a:t>
            </a:r>
            <a:r>
              <a:rPr b="0" lang="ru-RU" sz="4000" spc="-1" strike="noStrike">
                <a:solidFill>
                  <a:srgbClr val="a08366"/>
                </a:solidFill>
                <a:latin typeface="Times New Roman"/>
              </a:rPr>
              <a:t>вялым оборотом»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08366"/>
                </a:solidFill>
                <a:latin typeface="Times New Roman"/>
              </a:rPr>
              <a:t>А.С. Пушкин</a:t>
            </a:r>
            <a:br>
              <a:rPr sz="4000"/>
            </a:b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Times New Roman"/>
              </a:rPr>
              <a:t>Тестовая проверка </a:t>
            </a:r>
            <a:br>
              <a:rPr sz="4400"/>
            </a:br>
            <a:r>
              <a:rPr b="1" i="1" lang="ru-RU" sz="4400" spc="-1" strike="noStrike">
                <a:solidFill>
                  <a:srgbClr val="7030a0"/>
                </a:solidFill>
                <a:latin typeface="Times New Roman"/>
              </a:rPr>
              <a:t>знаний и умений по теме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. Восполните недостающее в определении причастия: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7030a0"/>
                </a:solidFill>
                <a:latin typeface="Times New Roman"/>
              </a:rPr>
              <a:t>Причастие - …., оно обозначает признак …. и отвечает на вопросы …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I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Зачеркните лишнее:                                                  </a:t>
            </a:r>
            <a:r>
              <a:rPr b="0" i="1" lang="ru-RU" sz="2400" spc="-1" strike="noStrike">
                <a:solidFill>
                  <a:srgbClr val="7030a0"/>
                </a:solidFill>
                <a:latin typeface="Times New Roman"/>
              </a:rPr>
              <a:t>Причастия бывают сов., несов. вида, наст., буд., прошедшего времени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II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. Восполните недостающее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Times New Roman"/>
              </a:rPr>
              <a:t>    </a:t>
            </a:r>
            <a:r>
              <a:rPr b="0" i="1" lang="ru-RU" sz="2400" spc="-1" strike="noStrike">
                <a:solidFill>
                  <a:srgbClr val="7030a0"/>
                </a:solidFill>
                <a:latin typeface="Times New Roman"/>
              </a:rPr>
              <a:t>Причастия изменяются по родам и …., как и ….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Какое из данных слов является причастием?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7030a0"/>
                </a:solidFill>
                <a:uFillTx/>
                <a:latin typeface="Times New Roman"/>
              </a:rPr>
              <a:t>1 вариант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1. белый платок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2. белеющий платок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3. шумный поток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4. шумливый поток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7030a0"/>
                </a:solidFill>
                <a:uFillTx/>
                <a:latin typeface="Times New Roman"/>
              </a:rPr>
              <a:t>2 вариант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1. горячая сковорода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2. горящие поленья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3. торопливая походка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4. высочайшие горы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Овал 6"/>
          <p:cNvSpPr/>
          <p:nvPr/>
        </p:nvSpPr>
        <p:spPr>
          <a:xfrm>
            <a:off x="928800" y="2928960"/>
            <a:ext cx="500040" cy="428760"/>
          </a:xfrm>
          <a:prstGeom prst="ellipse">
            <a:avLst/>
          </a:prstGeom>
          <a:noFill/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8" name="Прямая соединительная линия 8"/>
          <p:cNvSpPr/>
          <p:nvPr/>
        </p:nvSpPr>
        <p:spPr>
          <a:xfrm flipV="1">
            <a:off x="2142360" y="2786040"/>
            <a:ext cx="142920" cy="28584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9" name="Прямая соединительная линия 10"/>
          <p:cNvSpPr/>
          <p:nvPr/>
        </p:nvSpPr>
        <p:spPr>
          <a:xfrm>
            <a:off x="2285280" y="2786040"/>
            <a:ext cx="214200" cy="28584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00" name="Овал 12"/>
          <p:cNvSpPr/>
          <p:nvPr/>
        </p:nvSpPr>
        <p:spPr>
          <a:xfrm>
            <a:off x="4929120" y="2928960"/>
            <a:ext cx="428760" cy="428760"/>
          </a:xfrm>
          <a:prstGeom prst="ellipse">
            <a:avLst/>
          </a:prstGeom>
          <a:noFill/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01" name="Прямая соединительная линия 14"/>
          <p:cNvSpPr/>
          <p:nvPr/>
        </p:nvSpPr>
        <p:spPr>
          <a:xfrm flipV="1">
            <a:off x="5929200" y="2857320"/>
            <a:ext cx="214560" cy="21420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02" name="Прямая соединительная линия 16"/>
          <p:cNvSpPr/>
          <p:nvPr/>
        </p:nvSpPr>
        <p:spPr>
          <a:xfrm>
            <a:off x="6143040" y="2857680"/>
            <a:ext cx="214200" cy="21420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Выпиши номер словосочетания, в котором у причастия напишешь Е на месте пропуска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90360" y="1828800"/>
            <a:ext cx="732636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1. в чернеющ_м лесу,                                                   2. шумящ_м потоком,                                               3. о льющ_мся дожде,                                                4. задымивш_юся речку,                                     5. закрасневш_йся зари,                                          6. у волнующ_гося озера,                                        7. колеблющ_мся ветерком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1928880" y="7072200"/>
            <a:ext cx="10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</a:rPr>
              <a:t>ийся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>
            <a:off x="5214960" y="714384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</a:rPr>
              <a:t>ийся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>
            <a:off x="7000920" y="7286760"/>
            <a:ext cx="21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</a:rPr>
              <a:t>иеся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360" y="260280"/>
            <a:ext cx="790236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996633"/>
                </a:solidFill>
                <a:latin typeface="Times New Roman"/>
              </a:rPr>
              <a:t>1 октября 1975 года впервые был проведен Международный день музыки. Основными целями, которые ставили перед собой создатели данного праздника, были: обмен опытом между культурами разных стран и распространение музыкального искусства. Также приводился список музыкальных мероприятий, приуроченных  к этому дню. Предлагалось  проводить выставки музыкальных инструментов, фотографий и различных произведений искусства, связанных с музыкальной темой. Музыканты исполняют всемирно известные произведения, являющиеся мировым культурным наследием. </a:t>
            </a:r>
            <a:br>
              <a:rPr sz="2100"/>
            </a:br>
            <a:r>
              <a:rPr b="0" lang="ru-RU" sz="2100" spc="-1" strike="noStrike">
                <a:solidFill>
                  <a:srgbClr val="996633"/>
                </a:solidFill>
                <a:latin typeface="Times New Roman"/>
              </a:rPr>
              <a:t>Музыка с древних времен сопровождает человека. Доказательством этому могут служить наскальные рисунки, обнаруженные в пещерах Африки. На них древние люди изображали людей,  держащих в руках нечто, очень напоминающее музыкальные инструменты. В настоящее время такие инструменты, конечно же, уже не существуют. Поэтому тех мелодий нам никогда не услышать. Само слово «музыка» можно перевести с греческого как вид искусства, для которого художественным материалом является особым образом организованный во времени звук.</a:t>
            </a:r>
            <a:endParaRPr b="0" lang="en-US" sz="21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71280" y="333360"/>
            <a:ext cx="777708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AutoNum type="arabicParenR"/>
              <a:tabLst>
                <a:tab algn="l" pos="490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a08366"/>
                </a:solidFill>
                <a:uFillTx/>
                <a:latin typeface="Times New Roman"/>
                <a:ea typeface="Times New Roman"/>
              </a:rPr>
              <a:t>приуроченных  к этому дню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AutoNum type="arabicParenR"/>
              <a:tabLst>
                <a:tab algn="l" pos="490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08366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 u="sng">
                <a:solidFill>
                  <a:srgbClr val="a08366"/>
                </a:solidFill>
                <a:uFillTx/>
                <a:latin typeface="Times New Roman"/>
                <a:ea typeface="Times New Roman"/>
              </a:rPr>
              <a:t>связанных с музыкальной темой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AutoNum type="arabicParenR"/>
              <a:tabLst>
                <a:tab algn="l" pos="490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a08366"/>
                </a:solidFill>
                <a:uFillTx/>
                <a:latin typeface="Times New Roman"/>
                <a:ea typeface="Times New Roman"/>
              </a:rPr>
              <a:t>являющиеся мировым культурным наследием</a:t>
            </a:r>
            <a:r>
              <a:rPr b="0" lang="ru-RU" sz="3200" spc="-1" strike="noStrike">
                <a:solidFill>
                  <a:srgbClr val="a08366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AutoNum type="arabicParenR"/>
              <a:tabLst>
                <a:tab algn="l" pos="490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a08366"/>
                </a:solidFill>
                <a:uFillTx/>
                <a:latin typeface="Times New Roman"/>
                <a:ea typeface="Times New Roman"/>
              </a:rPr>
              <a:t>обнаруженные в пещерах Африки</a:t>
            </a:r>
            <a:r>
              <a:rPr b="0" lang="ru-RU" sz="3200" spc="-1" strike="noStrike">
                <a:solidFill>
                  <a:srgbClr val="a08366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AutoNum type="arabicParenR"/>
              <a:tabLst>
                <a:tab algn="l" pos="490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a08366"/>
                </a:solidFill>
                <a:uFillTx/>
                <a:latin typeface="Times New Roman"/>
                <a:ea typeface="Times New Roman"/>
              </a:rPr>
              <a:t>держащих в руках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AutoNum type="arabicParenR"/>
              <a:tabLst>
                <a:tab algn="l" pos="490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a08366"/>
                </a:solidFill>
                <a:uFillTx/>
                <a:latin typeface="Times New Roman"/>
                <a:ea typeface="Times New Roman"/>
              </a:rPr>
              <a:t>очень напоминающее музыкальные инструменты</a:t>
            </a:r>
            <a:r>
              <a:rPr b="0" lang="ru-RU" sz="3200" spc="-1" strike="noStrike">
                <a:solidFill>
                  <a:srgbClr val="a08366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ce9964"/>
              </a:buClr>
              <a:buSzPct val="90000"/>
              <a:buFont typeface="Times New Roman"/>
              <a:buAutoNum type="arabicParenR"/>
              <a:tabLst>
                <a:tab algn="l" pos="490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a08366"/>
                </a:solidFill>
                <a:uFillTx/>
                <a:latin typeface="Times New Roman"/>
                <a:ea typeface="Times New Roman"/>
              </a:rPr>
              <a:t>организованный во времени </a:t>
            </a:r>
            <a:r>
              <a:rPr b="0" lang="ru-RU" sz="3200" spc="-1" strike="noStrike">
                <a:solidFill>
                  <a:srgbClr val="a08366"/>
                </a:solidFill>
                <a:latin typeface="Times New Roman"/>
                <a:ea typeface="Times New Roman"/>
              </a:rPr>
              <a:t>звук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90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7986600" cy="58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5:40:04Z</dcterms:created>
  <dc:creator>Admin</dc:creator>
  <dc:description/>
  <dc:language>en-US</dc:language>
  <cp:lastModifiedBy>Ваали</cp:lastModifiedBy>
  <dcterms:modified xsi:type="dcterms:W3CDTF">2014-01-07T11:47:15Z</dcterms:modified>
  <cp:revision>27</cp:revision>
  <dc:subject/>
  <dc:title>ПОНЯТИЕ  О  ПРИЧАСТНОМ ОБОРОТЕ</dc:title>
</cp:coreProperties>
</file>